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77E9-164E-4F2B-83D8-B2CA5BAB1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1423-7644-4323-B2FB-063DD9281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137C-FEAF-48BF-8539-15C55E006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658F-6BCA-439C-B8DE-B6A4A8271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7D369-4FCD-4592-A666-BD7FB0EE8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1D71A-2424-4B18-B12F-675C51C5C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ADFA2-7CE4-4CB0-9206-2283BAE99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C5741-28E9-458D-A107-A7AD8AFCA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9E482-4B0D-4D80-B503-7A3DE0A05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6DD37-5785-431E-A75E-853B01BA8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0B61B-FCC6-4D9A-9235-1B50C3E01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CBB0-A4CD-42E6-95EC-50DB9918A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F117D-6756-4295-802F-24467E6A4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C7F20-C95E-4E16-A35C-F6FFAE4F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5F0FE-AE50-4704-8ADB-701BE97AC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1A076-BD11-40DC-9ED5-BE5689E51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84853-6D6A-48D4-9C69-2263AC2B7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72BA-3E92-4DD0-B51A-6F6CC2903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30DD-0BD8-4808-BAF1-EC4B4F722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66CD-24FC-4945-A8E5-C3AEB246D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8955-C10A-418A-9A18-A3A58FE8F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C0D0-3F2C-4761-BC93-E74516956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4EC2-E96A-4F54-BE35-D1EBDAD83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11C1-49B9-4617-A45C-D667D861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B47F6-FB5A-4B1A-8150-031035A1712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F4338-21F1-476E-B783-1E816CC33CB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687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20000"/>
                </a:solidFill>
                <a:latin typeface="Times New Roman"/>
              </a:rPr>
              <a:t>Vincent Willem </a:t>
            </a:r>
            <a:r>
              <a:rPr b="1" lang="tr-TR" sz="4800" spc="-1" strike="noStrike">
                <a:solidFill>
                  <a:srgbClr val="420000"/>
                </a:solidFill>
                <a:latin typeface="Times New Roman"/>
              </a:rPr>
              <a:t>V</a:t>
            </a:r>
            <a:r>
              <a:rPr b="1" lang="en-US" sz="4800" spc="-1" strike="noStrike">
                <a:solidFill>
                  <a:srgbClr val="420000"/>
                </a:solidFill>
                <a:latin typeface="Times New Roman"/>
              </a:rPr>
              <a:t>an Gogh</a:t>
            </a:r>
            <a:r>
              <a:rPr b="0" lang="en-US" sz="48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97" name="Picture 4" descr="220px-Vincent_van_gogh_01(2)"/>
          <p:cNvPicPr/>
          <p:nvPr/>
        </p:nvPicPr>
        <p:blipFill>
          <a:blip r:embed="rId1"/>
          <a:stretch/>
        </p:blipFill>
        <p:spPr>
          <a:xfrm>
            <a:off x="3419640" y="981000"/>
            <a:ext cx="20952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2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mori </a:t>
            </a:r>
            <a:r>
              <a:rPr b="0" lang="tr-TR" sz="4400" spc="-1" strike="noStrike">
                <a:solidFill>
                  <a:srgbClr val="42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fortunati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Primo Amore: suo cugino 7 anni piu di lu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ha ricevuto rifiuto da l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Prostituta: Sien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Clasina Maria Hoornik  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la pressione della famigl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Figlia del vicino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Margot Begeman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 tentato il suicidio a causa della loro genitori si oppone al loro matrimon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rdina De Groo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ssere responsabile della gravidanza di una ragaz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Prostituta Sien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Clasina Maria Hoornik  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01" name="Picture 4" descr="220px-Vincent_Van_Gogh_-_Sorrow"/>
          <p:cNvPicPr/>
          <p:nvPr/>
        </p:nvPicPr>
        <p:blipFill>
          <a:blip r:embed="rId1"/>
          <a:stretch/>
        </p:blipFill>
        <p:spPr>
          <a:xfrm>
            <a:off x="2484360" y="1773360"/>
            <a:ext cx="354168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420000"/>
                </a:solidFill>
                <a:latin typeface="Times New Roman"/>
              </a:rPr>
              <a:t>I mangiatori di patate</a:t>
            </a:r>
            <a:r>
              <a:rPr b="0" lang="en-US" sz="3600" spc="-1" strike="noStrike">
                <a:solidFill>
                  <a:srgbClr val="420000"/>
                </a:solidFill>
                <a:latin typeface="Times New Roman"/>
              </a:rPr>
              <a:t> </a:t>
            </a:r>
            <a:br>
              <a:rPr sz="3600"/>
            </a:br>
            <a:r>
              <a:rPr b="0" lang="tr-TR" sz="3600" spc="-1" strike="noStrike">
                <a:solidFill>
                  <a:srgbClr val="420000"/>
                </a:solidFill>
                <a:latin typeface="Times New Roman"/>
              </a:rPr>
              <a:t>primo famoso quadro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1720" y="5936760"/>
            <a:ext cx="7927920" cy="8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Van Gogh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ho voluto, lavorando, far capire che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questa povera gente, che alla luce di una lampada mangia patate servendosi dal piatto con le ma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4" descr="280px-Vincent_Van_Gogh_-_The_Potato_Eaters (1)"/>
          <p:cNvPicPr/>
          <p:nvPr/>
        </p:nvPicPr>
        <p:blipFill>
          <a:blip r:embed="rId1"/>
          <a:stretch/>
        </p:blipFill>
        <p:spPr>
          <a:xfrm>
            <a:off x="1908000" y="1916280"/>
            <a:ext cx="5185080" cy="36669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5"/>
          <p:cNvSpPr/>
          <p:nvPr/>
        </p:nvSpPr>
        <p:spPr>
          <a:xfrm>
            <a:off x="675720" y="5589720"/>
            <a:ext cx="73915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00"/>
                </a:solidFill>
                <a:latin typeface="Times New Roman"/>
              </a:rPr>
              <a:t>Nuenen ve Anvers</a:t>
            </a: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a cui lui utilizzati colori naturali e scuri nei suoi quadr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660000"/>
                </a:solidFill>
                <a:latin typeface="Times New Roman"/>
              </a:rPr>
              <a:t>Paul Gaugin: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 che il su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migliore amico pitt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660000"/>
                </a:solidFill>
                <a:latin typeface="Times New Roman"/>
              </a:rPr>
              <a:t>La Casa Gialla: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 Hann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vissutto insieme per un po’</a:t>
            </a:r>
            <a:r>
              <a:rPr b="0" lang="tr-T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4" descr="300px-Paul_Gauguin_104"/>
          <p:cNvPicPr/>
          <p:nvPr/>
        </p:nvPicPr>
        <p:blipFill>
          <a:blip r:embed="rId1"/>
          <a:stretch/>
        </p:blipFill>
        <p:spPr>
          <a:xfrm>
            <a:off x="5651640" y="1773360"/>
            <a:ext cx="2663640" cy="21398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280px-WLANL_-_Pachango_-_Het_gele_huis_('De_straat'),_Vincent_van_Gogh_(1888)"/>
          <p:cNvPicPr/>
          <p:nvPr/>
        </p:nvPicPr>
        <p:blipFill>
          <a:blip r:embed="rId2"/>
          <a:stretch/>
        </p:blipFill>
        <p:spPr>
          <a:xfrm>
            <a:off x="1187280" y="4149720"/>
            <a:ext cx="2953080" cy="242568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8"/>
          <p:cNvSpPr/>
          <p:nvPr/>
        </p:nvSpPr>
        <p:spPr>
          <a:xfrm>
            <a:off x="1688040" y="836640"/>
            <a:ext cx="53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20000"/>
                </a:solidFill>
                <a:latin typeface="Times New Roman"/>
              </a:rPr>
              <a:t>Biografia di Van Gog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9" descr="240px-Vincent_Willem_van_Gogh_128"/>
          <p:cNvPicPr/>
          <p:nvPr/>
        </p:nvPicPr>
        <p:blipFill>
          <a:blip r:embed="rId3"/>
          <a:stretch/>
        </p:blipFill>
        <p:spPr>
          <a:xfrm>
            <a:off x="5796000" y="3940200"/>
            <a:ext cx="2184480" cy="27288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0"/>
          <p:cNvSpPr/>
          <p:nvPr/>
        </p:nvSpPr>
        <p:spPr>
          <a:xfrm>
            <a:off x="4716360" y="1844640"/>
            <a:ext cx="935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ul Gauguin: Ritratto di Van Gog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4639680" y="6284880"/>
            <a:ext cx="195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aso di girasol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20000"/>
                </a:solidFill>
                <a:latin typeface="Times New Roman"/>
              </a:rPr>
              <a:t>Biografia di Van Gogh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126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660000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660000"/>
                </a:solidFill>
                <a:latin typeface="Times New Roman"/>
              </a:rPr>
              <a:t>rammatico conflitto </a:t>
            </a:r>
            <a:r>
              <a:rPr b="1" lang="tr-TR" sz="2400" spc="-1" strike="noStrike">
                <a:solidFill>
                  <a:srgbClr val="660000"/>
                </a:solidFill>
                <a:latin typeface="Times New Roman"/>
              </a:rPr>
              <a:t>: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omprensioni e divergenze di opinione tra le apparve e le sue phsycology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iora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o aver capito che 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Ga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sta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v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ando l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asciarlo,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i tagliò metà dell'orecchio sinistro, lo incartò, lo consegnò a Rachele, una prostituta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660000"/>
                </a:solidFill>
                <a:latin typeface="Times New Roman"/>
              </a:rPr>
              <a:t>Ospedale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'stato ricoverato in ospedale a causa della perdita di sangue e la depressionementa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oi di nuovo, di nuovo in ospedale a causa elle allucinazioni e paranoia.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usa delle pressioni della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e, finalmente pose in un ospedale psichiatrico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Saint-Rémy</a:t>
            </a:r>
            <a:br>
              <a:rPr sz="4000"/>
            </a:b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660000"/>
                </a:solidFill>
                <a:latin typeface="Times New Roman"/>
              </a:rPr>
              <a:t>Notte Stella :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</a:rPr>
              <a:t> che dipinse in ospedale mentale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 subito un sequestro e mangiato il suo vernic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660000"/>
                </a:solidFill>
                <a:latin typeface="Times New Roman"/>
              </a:rPr>
              <a:t>Genio: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 rivista francesa ha detto Genio parlava di lu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'esecuzione è vigorosa, esaltata, 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utale, intens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4" descr="280px-VanGogh-starry_night_ballance1"/>
          <p:cNvPicPr/>
          <p:nvPr/>
        </p:nvPicPr>
        <p:blipFill>
          <a:blip r:embed="rId1"/>
          <a:stretch/>
        </p:blipFill>
        <p:spPr>
          <a:xfrm>
            <a:off x="1042920" y="3500280"/>
            <a:ext cx="3240000" cy="25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747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Auvers-sur-Oise</a:t>
            </a:r>
            <a:br>
              <a:rPr sz="4000"/>
            </a:b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00"/>
                </a:solidFill>
                <a:latin typeface="Times New Roman"/>
              </a:rPr>
              <a:t>Dr. Paul Gachet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l suo secondo medico in un altro ospedale psichiatrico. Lodipinse tre volt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660000"/>
                </a:solidFill>
                <a:latin typeface="Times New Roman"/>
              </a:rPr>
              <a:t>Pistola: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 è sparato con una pistola dal suo pet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220px-Portrait_of_Dr"/>
          <p:cNvPicPr/>
          <p:nvPr/>
        </p:nvPicPr>
        <p:blipFill>
          <a:blip r:embed="rId1"/>
          <a:stretch/>
        </p:blipFill>
        <p:spPr>
          <a:xfrm>
            <a:off x="1332000" y="3573360"/>
            <a:ext cx="2454120" cy="3024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450px-Vincent_van_Gogh_(1853-1890)_-_Wheat_Field_with_Crows_(1890)"/>
          <p:cNvPicPr/>
          <p:nvPr/>
        </p:nvPicPr>
        <p:blipFill>
          <a:blip r:embed="rId2"/>
          <a:stretch/>
        </p:blipFill>
        <p:spPr>
          <a:xfrm>
            <a:off x="4140360" y="3860640"/>
            <a:ext cx="3871800" cy="181944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6"/>
          <p:cNvSpPr/>
          <p:nvPr/>
        </p:nvSpPr>
        <p:spPr>
          <a:xfrm>
            <a:off x="3918960" y="5950080"/>
            <a:ext cx="45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ampo di grano con volo di corv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olio su tela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20000"/>
                </a:solidFill>
                <a:latin typeface="Times New Roman"/>
              </a:rPr>
              <a:t>Misteri della sua malattia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I dottor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nno diagnosticato per la loro malattia più di 3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izofrenia</a:t>
            </a: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ressione maniacale</a:t>
            </a: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filide</a:t>
            </a: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nice avvelenamento</a:t>
            </a: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lattia di Meniere</a:t>
            </a: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po di calor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a usando troppo colore giallo nei suoi dipinti nei suoi ultimi anni. Così hanno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nsato che 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turbo medic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potrebbe essere un motivo per questo o per 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fetto</a:t>
            </a:r>
            <a:r>
              <a:rPr b="1" i="1" lang="tr-TR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lla vis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potrebbe essere una delle ragioni perché 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senzio</a:t>
            </a:r>
            <a:r>
              <a:rPr b="1" i="1" lang="tr-TR" sz="2400" spc="-1" strike="noStrike" u="sng">
                <a:solidFill>
                  <a:srgbClr val="000000"/>
                </a:solidFill>
                <a:uFillTx/>
                <a:latin typeface="Times New Roman"/>
              </a:rPr>
              <a:t> -absinth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vuto molto e lo faceva vedere appassionato di tut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4:27:31Z</dcterms:created>
  <dc:creator>melis</dc:creator>
  <dc:description/>
  <dc:language>en-US</dc:language>
  <cp:lastModifiedBy>sandr</cp:lastModifiedBy>
  <dcterms:modified xsi:type="dcterms:W3CDTF">2011-11-14T12:26:54Z</dcterms:modified>
  <cp:revision>4</cp:revision>
  <dc:subject/>
  <dc:title>Slayt 1</dc:title>
</cp:coreProperties>
</file>